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0841-EF5B-46F7-8381-554F07AB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840E-F22B-4553-96F9-28985692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5B81-783C-4ADA-86A7-2A8767961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7949-BFE3-4DE8-9E2E-615073BAA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5199-2166-4211-8885-B93B2A60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2CC9-D3FF-4DAA-8E29-807DC04A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1A71-3D8A-49B9-92B0-1696C71C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6AA1-F387-43AF-B408-AD85473E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A586-B0CF-43F6-8F65-E1969409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3740-0432-4B5B-A027-B6245E4B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7235-56B6-477C-9121-8795138C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A99D-669C-455B-8B51-C393E2C0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3440"/>
            <a:ext cx="241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C5BF-9EC5-4804-BCE8-72A3EFB18B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080" y="66600"/>
            <a:ext cx="1077840" cy="12016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629160" y="1305000"/>
            <a:ext cx="1050840" cy="1144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2560" y="1314360"/>
            <a:ext cx="1076040" cy="1114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8160" y="2562120"/>
            <a:ext cx="1012680" cy="1076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652920" y="171360"/>
            <a:ext cx="1017360" cy="1116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3681360" y="2476440"/>
            <a:ext cx="1038240" cy="1104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03480" y="298440"/>
            <a:ext cx="111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ro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94120" y="260280"/>
            <a:ext cx="170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Comic Sans MS"/>
              </a:rPr>
              <a:t>amaril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27520" y="1450800"/>
            <a:ext cx="136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neg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93760" y="1422360"/>
            <a:ext cx="109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azu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4400" y="2593800"/>
            <a:ext cx="1384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300"/>
                </a:solidFill>
                <a:latin typeface="Comic Sans MS"/>
              </a:rPr>
              <a:t>ver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18160" y="2546280"/>
            <a:ext cx="165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8c00f4"/>
                </a:solidFill>
                <a:latin typeface="Comic Sans MS"/>
              </a:rPr>
              <a:t>morad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80" y="66600"/>
            <a:ext cx="1077840" cy="1201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629160" y="1305000"/>
            <a:ext cx="1050840" cy="1144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2560" y="1314360"/>
            <a:ext cx="1076040" cy="1114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8160" y="2562120"/>
            <a:ext cx="1012680" cy="1076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3652920" y="171360"/>
            <a:ext cx="1017360" cy="111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3681360" y="2476440"/>
            <a:ext cx="1038240" cy="1104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03480" y="298440"/>
            <a:ext cx="111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ro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94120" y="260280"/>
            <a:ext cx="170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amaril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27520" y="1450800"/>
            <a:ext cx="136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negr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93760" y="1422360"/>
            <a:ext cx="109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azu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84400" y="2593800"/>
            <a:ext cx="136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ver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18160" y="2546280"/>
            <a:ext cx="165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morad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07:12:09Z</dcterms:created>
  <dc:creator>Katy Oliver</dc:creator>
  <dc:description/>
  <dc:language>en-US</dc:language>
  <cp:lastModifiedBy>Katy Oliver</cp:lastModifiedBy>
  <dcterms:modified xsi:type="dcterms:W3CDTF">2012-03-02T07:12:20Z</dcterms:modified>
  <cp:revision>1</cp:revision>
  <dc:subject/>
  <dc:title>Slide 1</dc:title>
</cp:coreProperties>
</file>